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D5451C-FB06-4052-992B-35489FAA70D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042BA7-D21F-4963-950C-51C8A42878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AB4281-1BAB-4611-BCD4-82FBD242C1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7FDC1D-966D-4EC3-BBF2-4CF99624FF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34B7BE-6C5E-4867-87B1-78072C48F1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0CADF3-DDA0-4D39-BF39-89D8AD98F6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06A872-7D76-4CC9-A990-2931C29853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C05100-25FA-47C3-8329-4866FD82DA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B077E4-F5D2-40DC-81C1-3F44989771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287B9F-EA78-45F6-9C5C-CD922445BD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93F2B5-444A-41DD-859A-A7857E0F3C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2281F4-B2F4-4FC1-9FE4-9BD6A9CD33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9260D8-83C0-4FD1-BFCC-CBE8A4FE58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FD1DF8-8945-4D9E-89E3-558B25411881}" type="datetime3">
              <a:rPr b="0" lang="en-US" sz="1400" spc="-1" strike="noStrike">
                <a:solidFill>
                  <a:srgbClr val="ffffff"/>
                </a:solidFill>
                <a:latin typeface="Times New Roman"/>
              </a:rPr>
              <a:t>July 30,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FD79B4-0E2D-4CB9-9D69-D84EFC526EF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99EEA89C-59E8-457C-B30F-3C8D04D2716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5F0121D8-990F-4555-B864-FBA0071BF5E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1507FDB0-BCE2-4B02-927E-A5BF7D16835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68FF3416-0603-4311-8381-0E78641D077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2E6C5A1F-A676-4026-B346-9FC0AC7B700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63D7388C-91C5-47E7-9302-684E90F92CCD}"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B428ADD3-227B-47CE-94C3-4D790E09035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0E68316F-7981-48F7-B1EE-A6707A5001F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98160531-0873-4986-A97D-74A87853842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9C98E4CC-A255-46B9-8A08-6DEADAE6F55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2C31B7D8-AEE9-4652-906D-E84445F31BF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3B970A8F-999D-4A42-BCAA-3C80007D414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D6815264-D8E6-4CB8-A3B7-4CCD458B15E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E80B514B-DAF7-4270-AC5F-F0388C45F95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