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70ACF-8C96-4D43-A3AF-5A9294D46C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93F050-7DCF-4252-B0C0-189BE4C505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C416EB-5C8C-4496-BD7B-059B8133B9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66B220-54E6-4E76-B4B1-591A6E288F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934E4B-C84F-4161-96DD-524AF92E37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9DE7DC-B473-48FA-9B9F-9AFF8993CB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4448F5-65DC-4FD9-B79C-93CB0E5E21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3C06C1-8A5C-48E3-B1CD-55819E9AF1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D4E972-DAEC-476F-9156-18638410A6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7149D3-9C12-4D67-9AC8-C4C07B35D5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F8DE4A-8643-4BEE-BF21-3E00BED69D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0CF87B-0E49-415F-BCFB-437BBAE85D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6A2936-607F-4F69-AE59-064ABC9291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08BBB-1B71-4E69-9A49-487484040B77}" type="datetime3">
              <a:rPr b="0" lang="en-US" sz="1400" spc="-1" strike="noStrike">
                <a:solidFill>
                  <a:srgbClr val="ffffff"/>
                </a:solidFill>
                <a:latin typeface="Times New Roman"/>
              </a:rPr>
              <a:t>July 28,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2ADB4-414B-4006-8A5F-F1B5D5D0C4A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0413151C-E000-4AF6-B1A9-FE903DABE27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3F303E06-F94B-4A8E-A550-012FD61D077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54D632DD-711B-46DC-AB09-7A59505541C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5FCA7960-8ACF-491A-B8E5-31E0C6F33BE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2BB91638-B9CE-4285-82F4-67BFB83B16E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3A2E83C0-8AC1-4B61-A83C-FC932E4BBECB}"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145D4D1E-7717-4164-A1BE-FD6C9E01053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B3834274-AE5C-4336-8EFA-59F376D8D40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79E2ADD0-F9E1-4003-A05F-5CF6F2E7D6C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99155E37-8AD5-4066-A0B6-1C278A8FA34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4D92C837-2288-4A00-996A-AB12E059252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336A1535-00A3-40F0-875C-FA0CADD962B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7511E329-7F55-4B54-89AE-DA0A81CA652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8FAEF812-93BC-4839-87D9-6435156C209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